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44674-ECCD-46ED-960F-A6EF3B22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89406-5CA9-411F-BC24-381892DF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9D703-EE62-46FA-8869-C11E38B7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78937-F287-4214-8E83-7E624C347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3104-3B47-40DE-BB61-6E13E7570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4ACE-840A-4D2E-8823-5A2D09D9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A882-1967-4BDA-943D-76CAE266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0DE5-4931-4513-A92A-F1A6BC8F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C783-2AF3-4B66-8991-FDDFA845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B4D0-0058-436F-BF55-13B4CD13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8728-6381-4A45-8136-B5ADDC49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5646A-9C7C-46E9-9952-190AC138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B08B-7AD9-4E7D-9774-1D5A377D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1C43-59D1-487C-AF19-096623BD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1D1D-5BB0-453F-AC37-021CA195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4CB5-D590-4A9D-822C-FE790B2DB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2CAF-3E47-4AB8-BECF-E11D493E2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566D1-80A5-4521-B565-3240E5B9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CDB4C-B314-4FE2-93CF-E6E6429A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009FC-B5C8-4F52-B5AA-B0460AD2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D6BD4-E85B-41B1-8833-C923B6CF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CED41-31A4-4C07-B8E0-8F9868DA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D4236-558B-41AF-B117-F760F0EA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F81DE-2689-40F0-942A-AD895C16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9560-7EB1-46B5-9AB2-41C83EECD2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EFCF-0DC2-49E3-BFEB-41FF4F29F0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literal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 - Wheel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4640" y="1851120"/>
            <a:ext cx="873612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urn the wheel so that the message app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3800" y="5248440"/>
            <a:ext cx="9050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18000" y="5324400"/>
            <a:ext cx="5565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he line above, the message be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WLC HJKWB 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430280" y="3397320"/>
            <a:ext cx="5132520" cy="1357200"/>
            <a:chOff x="1430280" y="3397320"/>
            <a:chExt cx="5132520" cy="1357200"/>
          </a:xfrm>
        </p:grpSpPr>
        <p:sp>
          <p:nvSpPr>
            <p:cNvPr id="117" name=""/>
            <p:cNvSpPr/>
            <p:nvPr/>
          </p:nvSpPr>
          <p:spPr>
            <a:xfrm rot="16200000">
              <a:off x="5567400" y="3687480"/>
              <a:ext cx="1219320" cy="771480"/>
            </a:xfrm>
            <a:prstGeom prst="can">
              <a:avLst>
                <a:gd name="adj" fmla="val 48351"/>
              </a:avLst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430280" y="3397320"/>
              <a:ext cx="5025600" cy="1357200"/>
              <a:chOff x="1430280" y="3397320"/>
              <a:chExt cx="5025600" cy="135720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516888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476892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436860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6200000">
                <a:off x="396864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6200000">
                <a:off x="357804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200000">
                <a:off x="3187800" y="3686040"/>
                <a:ext cx="1218960" cy="77184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6200000">
                <a:off x="279720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6200000">
                <a:off x="2397240" y="3686040"/>
                <a:ext cx="1218960" cy="77184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6200000">
                <a:off x="199692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6200000">
                <a:off x="1606680" y="3686040"/>
                <a:ext cx="1218960" cy="77184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6200000">
                <a:off x="120636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1744920" y="3430440"/>
                <a:ext cx="367560" cy="1324080"/>
                <a:chOff x="1744920" y="3430440"/>
                <a:chExt cx="367560" cy="13240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176400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82124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4032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83060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80216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74492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125800" y="3430440"/>
                <a:ext cx="367560" cy="1324080"/>
                <a:chOff x="2125800" y="3430440"/>
                <a:chExt cx="367560" cy="13240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14488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20212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22120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21148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18304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12580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2516400" y="3430440"/>
                <a:ext cx="367560" cy="1324080"/>
                <a:chOff x="2516400" y="3430440"/>
                <a:chExt cx="367560" cy="13240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253548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59272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61180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60208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57364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51640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2907000" y="3430440"/>
                <a:ext cx="367560" cy="1324080"/>
                <a:chOff x="2907000" y="3430440"/>
                <a:chExt cx="367560" cy="13240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292608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98332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00240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99268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96424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90700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306960" y="3430440"/>
                <a:ext cx="367560" cy="1324080"/>
                <a:chOff x="3306960" y="3430440"/>
                <a:chExt cx="367560" cy="132408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32604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J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38328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40236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39264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36420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30696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3726000" y="3430440"/>
                <a:ext cx="367560" cy="1324080"/>
                <a:chOff x="3726000" y="3430440"/>
                <a:chExt cx="367560" cy="13240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374508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80232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82140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81168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78324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72600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4116600" y="3430440"/>
                <a:ext cx="367560" cy="1324080"/>
                <a:chOff x="4116600" y="3430440"/>
                <a:chExt cx="367560" cy="13240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413568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19292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J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21200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20228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17384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11660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4516560" y="3421080"/>
                <a:ext cx="367560" cy="1324080"/>
                <a:chOff x="4516560" y="3421080"/>
                <a:chExt cx="367560" cy="132408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4535640" y="34210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592880" y="3620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611960" y="38401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602240" y="404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573800" y="4268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516560" y="4468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897800" y="3421080"/>
                <a:ext cx="366840" cy="1324080"/>
                <a:chOff x="4897800" y="3421080"/>
                <a:chExt cx="366840" cy="13240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916520" y="34210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973400" y="3620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992480" y="38401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983120" y="404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954320" y="4268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J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897800" y="4468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297760" y="3421080"/>
                <a:ext cx="367560" cy="1324080"/>
                <a:chOff x="5297760" y="3421080"/>
                <a:chExt cx="367560" cy="13240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5316840" y="34210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374080" y="3620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393160" y="38401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383440" y="404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355000" y="4268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297760" y="4468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707440" y="3397320"/>
                <a:ext cx="366840" cy="1324080"/>
                <a:chOff x="5707440" y="3397320"/>
                <a:chExt cx="366840" cy="132408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726160" y="33973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783040" y="35971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802120" y="38163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792760" y="4025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763960" y="42451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707440" y="4444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088320" y="3430440"/>
                <a:ext cx="367560" cy="1324080"/>
                <a:chOff x="6088320" y="3430440"/>
                <a:chExt cx="367560" cy="13240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610740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6464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18372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17400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14556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08832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4" name=""/>
          <p:cNvGrpSpPr/>
          <p:nvPr/>
        </p:nvGrpSpPr>
        <p:grpSpPr>
          <a:xfrm>
            <a:off x="1778040" y="3686040"/>
            <a:ext cx="6078240" cy="459720"/>
            <a:chOff x="1778040" y="3686040"/>
            <a:chExt cx="6078240" cy="459720"/>
          </a:xfrm>
        </p:grpSpPr>
        <p:sp>
          <p:nvSpPr>
            <p:cNvPr id="215" name=""/>
            <p:cNvSpPr/>
            <p:nvPr/>
          </p:nvSpPr>
          <p:spPr>
            <a:xfrm>
              <a:off x="1778040" y="3828960"/>
              <a:ext cx="4857840" cy="276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90280" y="3686040"/>
              <a:ext cx="156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99"/>
                  </a:solidFill>
                  <a:latin typeface="Magik"/>
                </a:rPr>
                <a:t>plain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31640" y="3448080"/>
            <a:ext cx="6147000" cy="459720"/>
            <a:chOff x="431640" y="3448080"/>
            <a:chExt cx="6147000" cy="459720"/>
          </a:xfrm>
        </p:grpSpPr>
        <p:sp>
          <p:nvSpPr>
            <p:cNvPr id="218" name=""/>
            <p:cNvSpPr/>
            <p:nvPr/>
          </p:nvSpPr>
          <p:spPr>
            <a:xfrm>
              <a:off x="1720800" y="3648240"/>
              <a:ext cx="4857840" cy="190440"/>
            </a:xfrm>
            <a:prstGeom prst="rect">
              <a:avLst/>
            </a:prstGeom>
            <a:noFill/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1640" y="3448080"/>
              <a:ext cx="17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99"/>
                  </a:solidFill>
                  <a:latin typeface="Magik"/>
                </a:rPr>
                <a:t>cipher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0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F4D48-3666-4D2D-B6CC-2FA7B91E61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zeries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7320" y="1787040"/>
            <a:ext cx="345096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linders such as the Wheel cipher use a set of wheels with the alphabet in different, random orders around each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zeries developed one in 1891 with 20 cylin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62400" y="2379600"/>
            <a:ext cx="60328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 b c d e f g h i j k l m n o p q r s t u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 c d f g h j k l m n p q r s t v x z a e i o u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 e b c d f g h i o j k l m n p u y q r s t v x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z y x v u t s r q p o n m l k j i h g f e d c b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u z x v t s r o i q p n m l k e a j h g f d c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z x v t s r q p n m l k j h g f d c b y u o i 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 l o n s e f t d p r i j u g v b c h k m q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 i e n h u r x l s p a v d t o y m c f g j k q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 h a r y b d e t s l f g i j k m n o p q u v x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 i e u p r o t g l a f n c b h j k m q s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v i t z l s c o u r a n d b f g h j k m p q x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 o r m e z l s a i c u x b d g h j k n p q t v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 l o i r e m t d n s a u x b c f h j k p q v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 o n e u r t p a i b c d f g j k l m q s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 n s t r u e z l a j b c d f g h k m o p q v x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j a i m e l o g n f r t h u b c d k p q s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 y r i e l s o n a b c d f g h j m p q t u v x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 h o m e p r s t d i u a b c f g j k n q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 o n t e z a c h v l b d f g i j k p q r s u x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0   n o u s t e l a c f b d g h i j k m p q r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D63AF-DCF8-4B4E-8300-B7DBC1467A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77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770" fill="hold"/>
                                        <p:tgtEl>
                                          <p:spTgt spid="2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821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ey is the order of the cyli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 using the order 1, 5, 3 and the word “ha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496200" y="870120"/>
            <a:ext cx="2375280" cy="6000480"/>
            <a:chOff x="6496200" y="870120"/>
            <a:chExt cx="2375280" cy="6000480"/>
          </a:xfrm>
        </p:grpSpPr>
        <p:sp>
          <p:nvSpPr>
            <p:cNvPr id="228" name=""/>
            <p:cNvSpPr/>
            <p:nvPr/>
          </p:nvSpPr>
          <p:spPr>
            <a:xfrm>
              <a:off x="6800760" y="870120"/>
              <a:ext cx="1752840" cy="5943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96200" y="1022400"/>
              <a:ext cx="2375280" cy="58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  5 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h  a  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  j  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j  h  x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k  g  z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  f  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m  d  e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n  c  b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  b 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  y  d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q  u  f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  z  g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  x  h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t  v  i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u  t  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v  s  j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x  r  k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y  o  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z  i 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  q  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b  p 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  n  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d  m 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  l  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  k  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g  e  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82000" y="125100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829680" y="3537000"/>
            <a:ext cx="4342680" cy="2090160"/>
            <a:chOff x="3829680" y="3537000"/>
            <a:chExt cx="4342680" cy="2090160"/>
          </a:xfrm>
        </p:grpSpPr>
        <p:sp>
          <p:nvSpPr>
            <p:cNvPr id="232" name=""/>
            <p:cNvSpPr/>
            <p:nvPr/>
          </p:nvSpPr>
          <p:spPr>
            <a:xfrm>
              <a:off x="7029360" y="3537000"/>
              <a:ext cx="1143000" cy="30456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29680" y="4984560"/>
              <a:ext cx="212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Use “sxh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5810040" y="3841200"/>
              <a:ext cx="1143000" cy="129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629F9-A156-467F-BB26-BEECD25BE4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zeries under the cipher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357200" y="3398760"/>
            <a:ext cx="6861240" cy="2063880"/>
          </a:xfrm>
          <a:prstGeom prst="rect">
            <a:avLst/>
          </a:prstGeom>
          <a:ln w="0">
            <a:noFill/>
          </a:ln>
        </p:spPr>
      </p:pic>
      <p:grpSp>
        <p:nvGrpSpPr>
          <p:cNvPr id="239" name=""/>
          <p:cNvGrpSpPr/>
          <p:nvPr/>
        </p:nvGrpSpPr>
        <p:grpSpPr>
          <a:xfrm>
            <a:off x="5367240" y="3459240"/>
            <a:ext cx="1390680" cy="952560"/>
            <a:chOff x="5367240" y="3459240"/>
            <a:chExt cx="1390680" cy="952560"/>
          </a:xfrm>
        </p:grpSpPr>
        <p:sp>
          <p:nvSpPr>
            <p:cNvPr id="240" name=""/>
            <p:cNvSpPr/>
            <p:nvPr/>
          </p:nvSpPr>
          <p:spPr>
            <a:xfrm>
              <a:off x="5367240" y="3459240"/>
              <a:ext cx="1390680" cy="952560"/>
            </a:xfrm>
            <a:prstGeom prst="wedgeRoundRectCallout">
              <a:avLst>
                <a:gd name="adj1" fmla="val -43037"/>
                <a:gd name="adj2" fmla="val 70000"/>
                <a:gd name="adj3" fmla="val 16667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30600" y="3476520"/>
              <a:ext cx="11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rang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wheel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795320" y="2725560"/>
            <a:ext cx="1114560" cy="733680"/>
            <a:chOff x="1795320" y="2725560"/>
            <a:chExt cx="1114560" cy="733680"/>
          </a:xfrm>
        </p:grpSpPr>
        <p:sp>
          <p:nvSpPr>
            <p:cNvPr id="243" name=""/>
            <p:cNvSpPr/>
            <p:nvPr/>
          </p:nvSpPr>
          <p:spPr>
            <a:xfrm>
              <a:off x="1795320" y="2725560"/>
              <a:ext cx="1114560" cy="733680"/>
            </a:xfrm>
            <a:prstGeom prst="wedgeRoundRectCallout">
              <a:avLst>
                <a:gd name="adj1" fmla="val -41310"/>
                <a:gd name="adj2" fmla="val 75972"/>
                <a:gd name="adj3" fmla="val 16667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31680" y="2771640"/>
              <a:ext cx="98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t K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272880" y="5497560"/>
            <a:ext cx="857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cycle it will take the line below the plaintex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ond cycle it will take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e below the plaintext,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237960" y="637236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00FE7-A06B-4D96-836B-0D7AACD411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10T02:37:15Z</dcterms:modified>
  <cp:revision>53</cp:revision>
  <dc:subject/>
  <dc:title>CAP Cryptographic Analysis Program</dc:title>
</cp:coreProperties>
</file>